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0E00-516D-48BF-8E5B-788D1BD3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5482-8951-43A8-8F06-C778E184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E9B5-19DB-4537-A4CA-B0C8731C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7036-9BFC-49E6-AF28-413A543F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FA21-779C-4EC0-8EA6-6229639C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25DC-9CE6-483C-B8F1-DE97224F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33E1-A278-4180-BD8A-7029540C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F159-59E5-43CE-8081-1F6EE71A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37B-FA9F-4B08-853B-AAC4EF3C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F99C-B549-45E8-B9F5-BFE66DBA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F575-B764-40E6-B0FA-82A0B2BF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56DA-A5DB-4F51-9166-76AD2353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2840-385E-485D-9B81-6736496B4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90720" y="82440"/>
            <a:ext cx="7391160" cy="6775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ore Practice with Rati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3046320" cy="3124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715000" y="3944880"/>
            <a:ext cx="3429000" cy="2913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886200" y="2514600"/>
            <a:ext cx="18208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l scored 5 goals in 9 games.  At this rate, how many goals might she score in 80 gam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914400" y="3581280"/>
                <a:ext cx="6192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533520" y="1905120"/>
            <a:ext cx="7968960" cy="64260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:  set up a ratio from what you know.  You know Lil scor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 go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2600" y="2935440"/>
            <a:ext cx="8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: 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45000" y="2895480"/>
            <a:ext cx="46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a note of what the terms re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2320" y="266688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s   G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21320" y="373392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write as a fr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20" y="3657600"/>
            <a:ext cx="94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4267080"/>
            <a:ext cx="599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up an equivalent ratio, making sure to put the information in the correct place in the rati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know she will play 80 g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to know how many goals she might get - </a:t>
            </a:r>
            <a:r>
              <a:rPr b="1" lang="el-G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600200" y="3505320"/>
                <a:ext cx="5191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0" y="4800600"/>
            <a:ext cx="25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, Cross multip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2880" y="5602320"/>
            <a:ext cx="16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ϰ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44.4444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19520" y="5486400"/>
            <a:ext cx="58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we can’t have part of a goal, round off to the nearest whole numbe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1760" y="6100920"/>
            <a:ext cx="8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ϰ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971800" y="1371600"/>
            <a:ext cx="4495680" cy="4572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Pri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se of 24 cans of pop costs $6.96.  What is the unit price? (Price for 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6120" y="2362320"/>
            <a:ext cx="43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ain set up a ratio of what you kn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92160" y="3048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96 :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8288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4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6600" y="2971800"/>
            <a:ext cx="47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a note of what each term repres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8520" y="358128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write as a fr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843120" y="3886200"/>
                <a:ext cx="1052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535320" y="4495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9000" y="3962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981080" y="3809880"/>
                <a:ext cx="3477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3277800" y="4114800"/>
            <a:ext cx="17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 Multi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4572000"/>
            <a:ext cx="40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short cut is to just divide the cost by the number of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3480" y="6019920"/>
            <a:ext cx="46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give you the unit price (for o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6080" y="5683320"/>
            <a:ext cx="14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ϰ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$0.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is the Better Bu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when we want to buy something, we want to know if buying a different size is a better bu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example, at the grocery store, a 350 g jar of peanut butter is $2.88.  A bigger jar of 500 g is $4.20.  Which is the better bu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19440" cy="1468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90840" y="228600"/>
            <a:ext cx="725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out the better buy, find out the unit cos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990720"/>
            <a:ext cx="64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y set up a ratio for each one.  Remember the short cut of just dividing the numerator by the deno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9680" y="2133720"/>
            <a:ext cx="38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0 g jar of peanut butter is $2.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41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53960" y="2133720"/>
            <a:ext cx="38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0 g jar of peanut butter is $4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914400" y="2666880"/>
                <a:ext cx="190512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19920" y="2666880"/>
                <a:ext cx="1828800" cy="15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3200400" y="2819520"/>
            <a:ext cx="214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 when you want to find unit pri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NEY ALWAYS GOES ON TOP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11880" y="4876920"/>
            <a:ext cx="782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 divide each, and the one with the lowest answer is the better bu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7280" y="541008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.008229/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7000" y="54100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.0084/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0280" y="5827680"/>
            <a:ext cx="385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jar has the lowest unit pri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 it is the better bu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et on Better Bu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by step answer to question one on the next sl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380880"/>
            <a:ext cx="3657600" cy="838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  $80 for 5 calculators        $264 for 24 calc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990720" y="2438280"/>
                <a:ext cx="55872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162920" y="2438280"/>
                <a:ext cx="7174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920880" y="1560600"/>
            <a:ext cx="7428960" cy="3682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wo different ratios for each part to find out the unit price of e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70720" y="2514600"/>
            <a:ext cx="347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y divide the numer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the denominator to fin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price for each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025600" y="3938760"/>
            <a:ext cx="3281400" cy="218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09480" y="4038480"/>
                <a:ext cx="19051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÷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324480" y="4038480"/>
                <a:ext cx="23623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4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3046680" y="4724280"/>
            <a:ext cx="341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atio with lowest quo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 better buy.  Circl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ter Bu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400800" y="4495680"/>
            <a:ext cx="19051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2:47:32Z</dcterms:created>
  <dc:creator>admin</dc:creator>
  <dc:description/>
  <dc:language>en-US</dc:language>
  <cp:lastModifiedBy>admin</cp:lastModifiedBy>
  <dcterms:modified xsi:type="dcterms:W3CDTF">2007-11-27T21:22:32Z</dcterms:modified>
  <cp:revision>8</cp:revision>
  <dc:subject/>
  <dc:title>More Practice with Ratios</dc:title>
</cp:coreProperties>
</file>